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86B34-60DC-4428-87E4-B139495391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76415-ABA1-4DF7-85A7-AC9D6617074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980E8-F3F8-4FE6-A330-AA9A523FFB1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FB8EAB-6E69-4584-8D81-567C23F1036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E53F2DE-D23A-4C27-9372-5D61028F79D9}" type="datetime">
              <a:rPr b="0" lang="fr-FR" sz="1200" spc="-1" strike="noStrike">
                <a:solidFill>
                  <a:srgbClr val="000000"/>
                </a:solidFill>
                <a:latin typeface="Times New Roman"/>
                <a:ea typeface="Arial"/>
              </a:rPr>
              <a:t>28/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8AE8B-4C64-464F-9B95-7B9265D091A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82C15-7DF6-4815-9773-DB6D16342F5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8E83B-962A-4D4F-8992-205402C01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520E0-5C61-49BE-8F6A-64F8C387A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BF4A6-3BBB-4F11-A314-3D21769A5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676CF-5FBF-4A3E-86C6-3C45C4ED1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75FAD-C872-4BC1-8CEB-C4C19287B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BDD3B-D20D-4695-BEB8-4CE43091C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E32D6-F3AA-42DE-B5D9-8CACB9CFD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26ADF-B123-415A-9979-F3C89ADA3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94C60-33E4-47D2-A4B0-9F921DE6F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65BF7-DCFC-4646-B139-25B4630D3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77858-BE61-46A9-949B-C3D3796B6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C2829-F27E-4303-B8EE-3ABFF04E2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48649-17AA-4C77-B57E-13B87BA93E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D0FA10B-F3E3-4409-9F6C-3A048B1A783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B0312-570D-4362-A384-9C04BA16F9F8}"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E0CDF-ED69-436D-9917-57729EBF33F0}"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